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CE533-640C-46A0-A368-458DC6D31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315CE-AFCC-4FDB-9F2E-B8F162835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geneed.nlm.nih.gov/images/dna_replication_sm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EB065-F760-4E23-9ADB-B47C0F59E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893E4-C933-40D2-A409-0DD06C81E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D582E-4357-48AD-80D6-96A9CA282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7D17B-A525-4BB9-9CC2-86A11384E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E2266-C367-410E-9DDC-0A9D5D1C8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7C2F2-9848-46DB-8A82-96E765F29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6418F-FEEB-473D-8862-A03644225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64FB7-325D-44D4-BAF1-BD9A6ECB8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B9846-BA2F-41F8-BBAB-9C881C4D2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animation: http://www.wiley.com/legacy/college/boyer/0470003790/animations/animation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AA70E-5BF2-411C-85F2-4186227D5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website: http://www.biology.arizona.edu/molecular_bio/problem_sets/nucleic_acids/nucleic_acids_1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F7781-4FE9-45B4-A71B-1A0386860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AE762-150D-4191-94AE-A9D6499D0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website: http://www.johnkyrk.com/DNAreplicatio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AD3F4-F80B-480D-873D-C5A48CC39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accessexcellence.org/RC/VL/GG/possible.php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4CDF8-D7D5-4237-9786-AE7939BAD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0C43-C6D5-4D67-B93D-B7FC532B0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5A4BF-5C1C-4380-8172-9EAB9631D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video page: http://highered.mheducation.com/sites/0072437316/student_view0/chapter14/animation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Image from old Powerpoint</a:t>
            </a:r>
            <a:r>
              <a:rPr b="0" lang="is-IS" sz="1200" spc="-1" strike="noStrike">
                <a:solidFill>
                  <a:srgbClr val="000000"/>
                </a:solidFill>
                <a:latin typeface="Arial"/>
              </a:rPr>
              <a:t>…source is not credi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CAE27-E279-4203-9C4A-C96FD7E25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animation: http://highered.mheducation.com/sites/0072437316/student_view0/chapter14/animation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EE9CC-9E15-4FC0-B5D9-37B533C55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users.rcn.com/jkimball.ma.ultranet/BiologyPages/D/DNAReplication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F3A93-BB77-4715-9EE2-538C34973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sharonchoi-sbi4u.blogspot.com/2010/09/dna-replication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5BC8-6F77-4EB1-9A60-1511B345E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E617-3E41-49C1-BD2B-C0E5B491D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55F1-370B-4CCE-904D-3B9234DBD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EE3E-AD71-4555-AAC0-F9F539A4E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39FC-385D-4E10-B770-65119ACE0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EB6A-67A2-4295-BCF1-760CCFCBF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4B07-98F8-4F33-8577-B7E0C75D1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AFBC-3BED-498A-953D-3557196E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52F3-631D-42F1-93D0-97488069D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960E-F3D3-4505-8990-467FA9C9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A7AA-A7FD-4229-A23C-BB32EFEC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FC58-524F-4BDB-BE66-FF9765EB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3A73D-4D0F-4F29-9920-D8839E847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Re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ication Enzyme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NA helica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reaks H-bonds between complementary base pairs, unwinding the double hel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ngle-stranded binding proteins (SSBs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ind to the unwound single strands of DNA to prevent the H-bonds from refo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ication Enzyme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oisomera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lieve tension caused by the unwinding of the double hel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cut both strands and allow them to swivel around each other, then reseal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ication Enzyme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a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ynthesizes an RNA primer of 10-60 base pairs to the template str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NA polymerase II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dds complementary nucleoside triphosphates in the 5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3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rection to the RNA pri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800px-DATP_chemical_structure"/>
          <p:cNvPicPr/>
          <p:nvPr/>
        </p:nvPicPr>
        <p:blipFill>
          <a:blip r:embed="rId1"/>
          <a:stretch/>
        </p:blipFill>
        <p:spPr>
          <a:xfrm>
            <a:off x="5867280" y="5181480"/>
            <a:ext cx="2210040" cy="12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ication Enzyme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ading str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built continuousl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owa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replication f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gging str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buil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w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the replication fork, and is built in short segments 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kazaki fra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ication Enzymes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NA polymerase 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moves RNA primers (from both the leading and lagging strands) and replaces them with deoxyribonucleot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NA liga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joins Okazaki fragments into one strand, through creation of phosphodiester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ication Enzymes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NA polymerase I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NA polymerase 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eck new strands of DNA for errors as they are synthes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 a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onuclea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excising incorrect nucleotides and adding the correct nucleotides to the str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ces between Prokaryotic &amp; Eukaryotic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usually onl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ne replication orig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prokaryotic DNA,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ore than one replication orig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eukaryotic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ces between Prokaryotic &amp; Eukaryotic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rokaryotic cells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NA polymerase I, II, and II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unction in replication and repair;  in eukaryotic cells, there a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ore than 3 different types of DNA polymer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f-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nteractive animation with questions is a good self-study tool.  Click on “DNA Replication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iology Project” is a fantastic site hosted by the University of Arizona.  At this part of the site there are multiple-choice problem sets.  Try the problem sets on Meselson-Stahl and DNA repl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Re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replication is essential for mitotic &amp; meiotic cell di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DNA replicati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mi-conserva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erva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 (cont</a:t>
            </a: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’m not a huge fan of this site, but it’s interesting to see the molecular structures of the DNA &amp; enzymes during the animation of DNA replic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mi-conservati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possible"/>
          <p:cNvPicPr/>
          <p:nvPr/>
        </p:nvPicPr>
        <p:blipFill>
          <a:blip r:embed="rId1"/>
          <a:stretch/>
        </p:blipFill>
        <p:spPr>
          <a:xfrm>
            <a:off x="2373480" y="1981080"/>
            <a:ext cx="4397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selson &amp; Stahl (195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w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scherichia col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acteria in medium containing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(heavy isotope of nitrogen) for 17 generations, ensuring that bacterial DNA was labelled with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selson &amp; Stahl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the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-labelled bacteria into a medium containing only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and allowed it to g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d centrifuged samples of the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-labelled 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selson &amp; Stahl Experim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on “Meselson and Stahl Experiment” animation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of Meselson &amp; Stahl experi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ould the results have been if DNA replication was conservative?  dispersi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mestahlexp"/>
          <p:cNvPicPr/>
          <p:nvPr/>
        </p:nvPicPr>
        <p:blipFill>
          <a:blip r:embed="rId1"/>
          <a:stretch/>
        </p:blipFill>
        <p:spPr>
          <a:xfrm>
            <a:off x="2209680" y="2743200"/>
            <a:ext cx="448308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Replication Enzym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tch “How nucleotides are added in DNA replication”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143000" y="2438280"/>
          <a:ext cx="6858000" cy="304812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A helic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m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oisomera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A polymerase 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A polymerase 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A lig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Re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ReplicationFork"/>
          <p:cNvPicPr/>
          <p:nvPr/>
        </p:nvPicPr>
        <p:blipFill>
          <a:blip r:embed="rId1"/>
          <a:stretch/>
        </p:blipFill>
        <p:spPr>
          <a:xfrm>
            <a:off x="2550960" y="1981080"/>
            <a:ext cx="4042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Re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DNA replication"/>
          <p:cNvPicPr/>
          <p:nvPr/>
        </p:nvPicPr>
        <p:blipFill>
          <a:blip r:embed="rId1"/>
          <a:stretch/>
        </p:blipFill>
        <p:spPr>
          <a:xfrm>
            <a:off x="690480" y="1981080"/>
            <a:ext cx="7763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02:41:59Z</dcterms:created>
  <dc:creator>rubina khan</dc:creator>
  <dc:description/>
  <dc:language>en-US</dc:language>
  <cp:lastModifiedBy>rubina khan</cp:lastModifiedBy>
  <dcterms:modified xsi:type="dcterms:W3CDTF">2017-03-21T02:30:35Z</dcterms:modified>
  <cp:revision>137</cp:revision>
  <dc:subject/>
  <dc:title>Molecular Genetics</dc:title>
</cp:coreProperties>
</file>